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D59-EEFA-4C46-8534-CB93F3D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35F-11B6-47D8-A690-A482BA34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7D5-C2EF-4426-89C1-3507FE87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07F-217D-4E65-B6A5-F209F2C0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539-E405-4993-B375-0215534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2DB-8630-4B37-BE8C-FDD4E0C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30F-C3D1-4EEE-BB3E-6F8922C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AE7-DD8C-41CA-8FBD-78BFC271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07C-C2A3-4DAA-A7DA-DF329661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D1C-72D2-489F-A694-49AFF6E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0C5-FE1E-4BD2-90F8-73102AF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DC8-7D94-416E-847E-E2378ED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1E8-D962-45EF-856F-882A1CF2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d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193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ing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Starting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with Market Participants on Thursday, February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iscuss project timeline and requirement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enter next phase (Pla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eveloping detail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nhancement method (upgrade current tool, Siebel or A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/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/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August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/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d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3-02T17:09:23Z</dcterms:modified>
  <cp:revision>154</cp:revision>
  <dc:subject/>
  <dc:title>TX SET V1.5 RFP Evaluation Recommendation</dc:title>
</cp:coreProperties>
</file>